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650-B10C-4304-8B7F-15828F52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B9B-76D2-464B-9C3A-2556875E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A8D-4A2D-4782-9094-ACA16616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A7B-5970-4E86-9AB9-53C0DFFC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D37-C6BB-426D-92EC-EB01E2F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C52-E5CC-459F-AD0B-33AA00A7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239-B724-493E-B70C-45556E6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1E6-2146-476C-9035-CF19600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C14-5158-4379-B235-0942C90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56B-4403-4883-8555-0AD82A4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DC7-8869-421F-BAAC-7F7308D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3BA-C0A6-4D3B-B74A-B821580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ACEF-51E3-4BDC-9243-AFB545F8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ed way of gathering and analyzing evidence about the natur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what we don'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 revision, testing, and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s of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50022" b="0"/>
          <a:stretch/>
        </p:blipFill>
        <p:spPr>
          <a:xfrm>
            <a:off x="457200" y="1600200"/>
            <a:ext cx="20574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4286520" cy="20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2000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we get to where we ar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 discovery raises more questions than it answ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development of new portable remote data collecting equipment enables researchers to monitor environmental conditions around the clock.  Allows researchers to pose and test new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iosity, skepticism, open-mindedness, and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relationship between science and soc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8:06:42Z</dcterms:created>
  <dc:creator>Tera Linn</dc:creator>
  <dc:description/>
  <dc:language>en-US</dc:language>
  <cp:lastModifiedBy>Tera Linn</cp:lastModifiedBy>
  <dcterms:modified xsi:type="dcterms:W3CDTF">2011-08-16T18:43:39Z</dcterms:modified>
  <cp:revision>2</cp:revision>
  <dc:subject/>
  <dc:title>What is Science?</dc:title>
</cp:coreProperties>
</file>